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CB69748-7CAB-40C7-939B-7E668B08F77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302760" y="4549320"/>
            <a:ext cx="6118200" cy="50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n introduction to RBM, emphasise that there are no absolutes in RBM – rather this is a rough typology to help them navigate – a guide – not a straightjacke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of the columns of information appear in order, from left to right. The presenter introduces the results terminology from top to bottom (impact down to activ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the arrows come in. The main message here is that there is a vertical logic of causality flowing between the lev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the yellow column of examples emerge. These examples match the previous slide, so it is an opportunity to clarify again the levels and the caus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the “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If – Th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” flags appear. Again, emphasise the vertical, causal logic of resul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hite column emerges to provide the overall focus of change for each level of resu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n column then emerges, emphasising the rough timeframe for levels of resul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the red triangle emerges. Message: that collective accountability for results increases as they move up the chain of results. At the outcome level, no single agency is likely to be able to guarantee a result. Rather, the collective efforts of several agencies and partners will be need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– the second level of outcome appears. This is the time to introduce the UN’s approach to RBM which has two levels of Outcome – UNDAF Outcome and contributing CP Outcomes. Point out that the second level of outcome is still an outcome level result (ie institutional/ behavioural; 5 years)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at it has a higher level of ambitio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move to the next slide to show them how these results fit into the Results Matrix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30A2-236F-4A60-996C-9F8837974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AD7D-79DA-4DF9-A595-3773A9E6D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C685-55D7-45F2-8CA8-3EED1A883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0EA0-9651-4E57-9FCE-D5EED901A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C90B-5939-4D98-A156-56CA61E5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FC0B-8DD7-4966-8B55-16E01B4E1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C282-2976-4664-89FF-CE4BCC720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29CA-2E04-4B01-9E23-0D389F34D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A19C-9E3D-45F9-A2EB-F2904C60D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57DE-58B1-471E-8570-6747D662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9409-ED0E-4A0F-955E-2C9E22147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E0D0-94A1-4281-8E81-6E53DB04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1DBB2-9AD3-42EB-AE4B-4F5811B537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2280" y="1752480"/>
            <a:ext cx="1524240" cy="4724640"/>
            <a:chOff x="152280" y="1752480"/>
            <a:chExt cx="1524240" cy="4724640"/>
          </a:xfrm>
        </p:grpSpPr>
        <p:sp>
          <p:nvSpPr>
            <p:cNvPr id="49" name=""/>
            <p:cNvSpPr/>
            <p:nvPr/>
          </p:nvSpPr>
          <p:spPr>
            <a:xfrm>
              <a:off x="152280" y="3733920"/>
              <a:ext cx="1524240" cy="761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utco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52280" y="1752480"/>
              <a:ext cx="152424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mpa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52280" y="4724280"/>
              <a:ext cx="152424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52280" y="5715000"/>
              <a:ext cx="152424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ctiv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828800" y="1752480"/>
            <a:ext cx="236232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Poverty reduc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3733920"/>
            <a:ext cx="236232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3000 new small enterprises developed in poorest provi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28800" y="4648320"/>
            <a:ext cx="236232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7 model business incubators operational in poorest provi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5715000"/>
            <a:ext cx="251460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Acquire faciliti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taff trai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Micro-credit provision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762120"/>
            <a:ext cx="15242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762120"/>
            <a:ext cx="22860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Lik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43400" y="762120"/>
            <a:ext cx="152388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ocus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10080" y="990720"/>
            <a:ext cx="304920" cy="30456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19920" y="762120"/>
            <a:ext cx="1523880" cy="761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@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frame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6019920" y="1752480"/>
            <a:ext cx="1523880" cy="4724640"/>
            <a:chOff x="6019920" y="1752480"/>
            <a:chExt cx="1523880" cy="4724640"/>
          </a:xfrm>
        </p:grpSpPr>
        <p:sp>
          <p:nvSpPr>
            <p:cNvPr id="63" name=""/>
            <p:cNvSpPr/>
            <p:nvPr/>
          </p:nvSpPr>
          <p:spPr>
            <a:xfrm>
              <a:off x="6019920" y="5715000"/>
              <a:ext cx="1523880" cy="7621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&lt;1 yr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19920" y="4724280"/>
              <a:ext cx="1523880" cy="7621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&lt;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yrs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019920" y="3733920"/>
              <a:ext cx="1523880" cy="761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yrs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019920" y="1752480"/>
              <a:ext cx="1523880" cy="7621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-10 yrs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7509960" y="990720"/>
            <a:ext cx="1753560" cy="5410080"/>
            <a:chOff x="7509960" y="990720"/>
            <a:chExt cx="1753560" cy="5410080"/>
          </a:xfrm>
        </p:grpSpPr>
        <p:sp>
          <p:nvSpPr>
            <p:cNvPr id="68" name=""/>
            <p:cNvSpPr/>
            <p:nvPr/>
          </p:nvSpPr>
          <p:spPr>
            <a:xfrm rot="10800000">
              <a:off x="7639920" y="990720"/>
              <a:ext cx="1369080" cy="54100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9800">
              <a:off x="7854840" y="1277640"/>
              <a:ext cx="86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21540600">
              <a:off x="7928640" y="5486400"/>
              <a:ext cx="86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20258400">
              <a:off x="7557840" y="3203280"/>
              <a:ext cx="1657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llective Accountabil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4343400" y="1752480"/>
            <a:ext cx="1600200" cy="4038840"/>
            <a:chOff x="4343400" y="1752480"/>
            <a:chExt cx="1600200" cy="4038840"/>
          </a:xfrm>
        </p:grpSpPr>
        <p:sp>
          <p:nvSpPr>
            <p:cNvPr id="73" name=""/>
            <p:cNvSpPr/>
            <p:nvPr/>
          </p:nvSpPr>
          <p:spPr>
            <a:xfrm>
              <a:off x="4343400" y="3733920"/>
              <a:ext cx="152424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Institutional/ Behavioural</a:t>
              </a: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43400" y="4724280"/>
              <a:ext cx="1600200" cy="106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Operational/ skills, abilities, products &amp; serv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343400" y="1752480"/>
              <a:ext cx="152424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Human!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152280" y="2743200"/>
            <a:ext cx="15242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2743200"/>
            <a:ext cx="236232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Employment and income generation incre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343400" y="2743200"/>
            <a:ext cx="15238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nstitutional/ Behavioural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19920" y="2743200"/>
            <a:ext cx="1523880" cy="7621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yrs</a:t>
            </a:r>
            <a:r>
              <a:rPr b="0" lang="en-GB" sz="2400" spc="-1" strike="noStrike">
                <a:solidFill>
                  <a:srgbClr val="00ff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59400">
            <a:off x="304920" y="3428640"/>
            <a:ext cx="380880" cy="380880"/>
          </a:xfrm>
          <a:prstGeom prst="upArrow">
            <a:avLst>
              <a:gd name="adj1" fmla="val 50000"/>
              <a:gd name="adj2" fmla="val 4305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3429000"/>
            <a:ext cx="381240" cy="380880"/>
          </a:xfrm>
          <a:prstGeom prst="upArrow">
            <a:avLst>
              <a:gd name="adj1" fmla="val 50000"/>
              <a:gd name="adj2" fmla="val 4305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9991400">
            <a:off x="1371600" y="2528640"/>
            <a:ext cx="60948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20066400">
            <a:off x="3962880" y="2369880"/>
            <a:ext cx="53316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20066400">
            <a:off x="3961080" y="3276360"/>
            <a:ext cx="4572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20066400">
            <a:off x="3962880" y="4343040"/>
            <a:ext cx="4572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20066400">
            <a:off x="3962880" y="5333760"/>
            <a:ext cx="4572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9991400">
            <a:off x="1371600" y="3595320"/>
            <a:ext cx="60948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9991400">
            <a:off x="1371600" y="4647960"/>
            <a:ext cx="60948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9991400">
            <a:off x="1371600" y="1599840"/>
            <a:ext cx="60948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1680" y="2434680"/>
            <a:ext cx="1146240" cy="3359520"/>
            <a:chOff x="301680" y="2434680"/>
            <a:chExt cx="1146240" cy="3359520"/>
          </a:xfrm>
        </p:grpSpPr>
        <p:sp>
          <p:nvSpPr>
            <p:cNvPr id="91" name=""/>
            <p:cNvSpPr/>
            <p:nvPr/>
          </p:nvSpPr>
          <p:spPr>
            <a:xfrm rot="10859400">
              <a:off x="304920" y="4419360"/>
              <a:ext cx="380880" cy="380880"/>
            </a:xfrm>
            <a:prstGeom prst="upArrow">
              <a:avLst>
                <a:gd name="adj1" fmla="val 50000"/>
                <a:gd name="adj2" fmla="val 4305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10859400">
              <a:off x="304920" y="5409360"/>
              <a:ext cx="380880" cy="381240"/>
            </a:xfrm>
            <a:prstGeom prst="upArrow">
              <a:avLst>
                <a:gd name="adj1" fmla="val 50000"/>
                <a:gd name="adj2" fmla="val 4309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0859400">
              <a:off x="304920" y="2437560"/>
              <a:ext cx="380880" cy="381240"/>
            </a:xfrm>
            <a:prstGeom prst="upArrow">
              <a:avLst>
                <a:gd name="adj1" fmla="val 50000"/>
                <a:gd name="adj2" fmla="val 4309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066680" y="5410080"/>
              <a:ext cx="381240" cy="381240"/>
            </a:xfrm>
            <a:prstGeom prst="upArrow">
              <a:avLst>
                <a:gd name="adj1" fmla="val 50000"/>
                <a:gd name="adj2" fmla="val 4305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066680" y="4419720"/>
              <a:ext cx="381240" cy="380880"/>
            </a:xfrm>
            <a:prstGeom prst="upArrow">
              <a:avLst>
                <a:gd name="adj1" fmla="val 50000"/>
                <a:gd name="adj2" fmla="val 4305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066680" y="2438280"/>
              <a:ext cx="381240" cy="381240"/>
            </a:xfrm>
            <a:prstGeom prst="upArrow">
              <a:avLst>
                <a:gd name="adj1" fmla="val 50000"/>
                <a:gd name="adj2" fmla="val 4305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20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A Typology for RBM: Poverty Re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10:10:13Z</dcterms:created>
  <dc:creator>kayijuka</dc:creator>
  <dc:description/>
  <dc:language>en-US</dc:language>
  <cp:lastModifiedBy>sandrone</cp:lastModifiedBy>
  <dcterms:modified xsi:type="dcterms:W3CDTF">2010-01-22T15:13:51Z</dcterms:modified>
  <cp:revision>5</cp:revision>
  <dc:subject/>
  <dc:title>PowerPoint Presentation</dc:title>
</cp:coreProperties>
</file>